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CB5-F56E-472B-AF91-4A6C773F0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D82-5BB7-40C0-AF27-25C4C2AB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4D9-6A9F-4134-A891-CEA4AD1B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23FE-36CD-4B43-8317-90037AF8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A00-7AFD-4066-9F4E-36E132A9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7CDE-9ECA-4847-94EC-D3AE1F80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DA7-B7FF-4D4C-8246-20BE8CA6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DE14-2D5C-4487-988F-6CE35B88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089D-66BE-4794-B975-AAB16A2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BB5B-A838-4DCC-BAA2-1C2FA9BA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196-9F47-41C1-8353-A01FB005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EA18-5C80-4F37-9E43-C30E6843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F03B-D4A2-4861-B991-673A620F4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Kapital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Matias Re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Gesun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joggen jeden morgen aber ich finde es langweil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esse viel obst und gemuse denn, sie schmects g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t keine alkahol getrun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77320" y="2133720"/>
            <a:ext cx="914400" cy="85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66880" y="4419720"/>
            <a:ext cx="1981440" cy="213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1496880" cy="180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71800" y="4724280"/>
            <a:ext cx="144792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238880" y="3200400"/>
            <a:ext cx="11527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gangs Ges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 du rauc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ünters Ges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 verbiden die sonne ni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247176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darf viel rad Fah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4197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habe kiene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Schokolad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, weil sie fett ma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47320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30:06Z</dcterms:created>
  <dc:creator>CUSD220</dc:creator>
  <dc:description/>
  <dc:language>en-US</dc:language>
  <cp:lastModifiedBy>CUSD220</cp:lastModifiedBy>
  <dcterms:modified xsi:type="dcterms:W3CDTF">2012-02-24T18:21:30Z</dcterms:modified>
  <cp:revision>3</cp:revision>
  <dc:subject/>
  <dc:title>Deutsch Kapital 4 Gesund Leben</dc:title>
</cp:coreProperties>
</file>